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4E77-A1BA-4A34-8978-F30AAF2B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4F83-421C-413F-A6DD-A4D6DFD8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5206-A04D-469B-ADE7-29BBC2ED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3366-D0B0-4EB1-81DD-03AD2FD4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487B-BBB2-4DF2-98C5-ECAA5F1D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2F82-4C2A-4C50-9FF8-C0C17E9C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FA9F-5BC2-4A45-928E-352633E4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B9FF-78C1-4207-8A78-32DD75A8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F7B8-C6A1-41CA-BE3E-70C530DC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B79C-CEC9-49C4-8343-C7A596BD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0A6A-2ACD-4EA7-8CCC-38B24A17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B1CC-3F62-4022-A576-690D7839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1E5B-4072-4B75-9B4D-1E7823918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meronartmuseum.com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77920"/>
            <a:ext cx="83818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Art Lessons: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lassroom Resource for Teachers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3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Cameron Art Mus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3201 South 17</a:t>
            </a:r>
            <a:r>
              <a:rPr b="0" lang="en-US" sz="17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 Stre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Wilmington, North Carolina 284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ameronartmuseum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1040" y="3505320"/>
            <a:ext cx="702504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operation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+ School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versity of North Carolina at Greensb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. Box 2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sboro, North Carolina 27402-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lus-schools.uncg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a grant from the Corning Fou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:  Martha Burd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2479680" cy="3276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920" y="3581280"/>
            <a:ext cx="8877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these workers?  Are they working for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working for someone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think they are friends or relatives or are they strangers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your answ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mood are they in?  Are they laughing and t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re they quiet?  What makes you think tha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581640" cy="2516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638680" y="380880"/>
            <a:ext cx="2019600" cy="2667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1200" y="3164040"/>
            <a:ext cx="8088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anted to make a painting or a print about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together, what would you show the people do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they be enjoying their work or would they be t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unhapp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s of work do people often enjoy d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s of work do people often say they dis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ork would you like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the art and the ar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3581280"/>
            <a:ext cx="297180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Tobacco Bar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Robert Blake, American, born 191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water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14.25” x 19.75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19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8968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57800" y="3962520"/>
            <a:ext cx="297180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Vegetable Wom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Claude Howell, American, 1915-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woodblock 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9.25” x 7.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 19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2895840" cy="2035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257800" y="914400"/>
            <a:ext cx="2019240" cy="2666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6360" y="5791320"/>
            <a:ext cx="83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would you like to know about the art or the arti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find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09680" y="22860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Fif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4190760"/>
            <a:ext cx="8229600" cy="17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Arts: setting, characters, details, fact and fiction, inference, compare and contrast, ora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tudies:  location, occupations, agriculture,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Art:  painting, print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4030920" cy="2835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86400" y="914400"/>
            <a:ext cx="2133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162920" cy="5038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5200" y="5526000"/>
            <a:ext cx="782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few minutes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s painting careful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 the parts of the paint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953240" cy="3484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4191120"/>
            <a:ext cx="798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at you see in the pain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setting? Can you identif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plants and any oth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5639040" cy="3969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31480" y="4495680"/>
            <a:ext cx="861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at is happening 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n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ell you when this scene takes pl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re clues to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is scen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you ever been in a place like this?  Where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66880" y="228600"/>
            <a:ext cx="3516480" cy="4648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3520" y="494028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is a different type of artwork.  It is not a painting, i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artist cut away the white parts and left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sections.  He spread ink o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ved p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ressed paper onto the wet ink to mak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3171960" cy="4190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5400" y="192240"/>
            <a:ext cx="826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int ha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ting, characters, structure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just as the painting do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minute and look carefully at this pr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48080" y="2209680"/>
            <a:ext cx="4448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s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re tools or other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gn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happening 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3810240" cy="2681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791320" y="380880"/>
            <a:ext cx="2074680" cy="2743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13560" y="3468600"/>
            <a:ext cx="8591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and contr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n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see that there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ar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 abo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what are they doing, how they are dress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ildings; what are they made o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und, the plants, the sk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, texture, detail, space, light and shad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648320" cy="3271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9680" y="3657600"/>
            <a:ext cx="877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people are working on a farm.  They are “tying” tobac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imagine these people own the farm or are they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paid to work the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imagine they feel about the work they are do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imagine they are talking or singing?  Tell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ha Burdette</cp:lastModifiedBy>
  <dcterms:modified xsi:type="dcterms:W3CDTF">2007-07-26T22:43:36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